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D92-A51D-452B-A4E8-CA18329D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38C-7380-4FCA-8E06-286C112D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AF1-DC34-4037-A7B6-3E438D78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9AE-0B8B-4440-B894-236561D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96F-266E-405A-A02D-EF39AF0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BB4-8477-4A46-9A54-86D837D8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D23-890B-4ECC-A0E2-818A36A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546-D576-402A-88E1-E67E6433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6F1-3E23-45FE-BA94-5303C89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B83-C56F-469C-8328-3FFFC39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880-A280-46BE-99E2-69175988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6C3-F54D-45F4-AE9A-CABBF6D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F06-E105-427B-9C45-949517F3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050-76FE-4FDB-951C-6FEDD49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9056520" y="1066680"/>
            <a:ext cx="8748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56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DB3-A192-4262-BD1C-D545DF65F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0" y="228600"/>
            <a:ext cx="9144000" cy="838080"/>
            <a:chOff x="0" y="228600"/>
            <a:chExt cx="9144000" cy="838080"/>
          </a:xfrm>
        </p:grpSpPr>
        <p:sp>
          <p:nvSpPr>
            <p:cNvPr id="7" name="Rectangle 18"/>
            <p:cNvSpPr/>
            <p:nvPr/>
          </p:nvSpPr>
          <p:spPr>
            <a:xfrm>
              <a:off x="8305920" y="76176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7"/>
            <p:cNvSpPr/>
            <p:nvPr/>
          </p:nvSpPr>
          <p:spPr>
            <a:xfrm>
              <a:off x="2971800" y="228600"/>
              <a:ext cx="4724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Picture 16" descr=""/>
            <p:cNvPicPr/>
            <p:nvPr/>
          </p:nvPicPr>
          <p:blipFill>
            <a:blip r:embed="rId3"/>
            <a:stretch/>
          </p:blipFill>
          <p:spPr>
            <a:xfrm>
              <a:off x="5475240" y="228600"/>
              <a:ext cx="1687680" cy="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3" descr=""/>
            <p:cNvPicPr/>
            <p:nvPr/>
          </p:nvPicPr>
          <p:blipFill>
            <a:blip r:embed="rId4"/>
            <a:stretch/>
          </p:blipFill>
          <p:spPr>
            <a:xfrm>
              <a:off x="0" y="228600"/>
              <a:ext cx="32004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"/>
            <p:cNvPicPr/>
            <p:nvPr/>
          </p:nvPicPr>
          <p:blipFill>
            <a:blip r:embed="rId5"/>
            <a:stretch/>
          </p:blipFill>
          <p:spPr>
            <a:xfrm>
              <a:off x="7543800" y="228600"/>
              <a:ext cx="1600200" cy="76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9807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e005d"/>
                </a:solidFill>
                <a:latin typeface="Verdana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hum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Rectangle 5"/>
            <p:cNvSpPr/>
            <p:nvPr/>
          </p:nvSpPr>
          <p:spPr>
            <a:xfrm>
              <a:off x="8153280" y="838080"/>
              <a:ext cx="990720" cy="601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0" y="0"/>
              <a:ext cx="9144000" cy="1066680"/>
            </a:xfrm>
            <a:prstGeom prst="rect">
              <a:avLst/>
            </a:prstGeom>
            <a:solidFill>
              <a:srgbClr val="2e005d"/>
            </a:solidFill>
            <a:ln w="9360">
              <a:solidFill>
                <a:srgbClr val="2e00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Picture 7" descr=""/>
            <p:cNvPicPr/>
            <p:nvPr/>
          </p:nvPicPr>
          <p:blipFill>
            <a:blip r:embed="rId1"/>
            <a:stretch/>
          </p:blipFill>
          <p:spPr>
            <a:xfrm>
              <a:off x="1447920" y="0"/>
              <a:ext cx="51814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7620120" y="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"/>
            <p:cNvPicPr/>
            <p:nvPr/>
          </p:nvPicPr>
          <p:blipFill>
            <a:blip r:embed="rId4"/>
            <a:stretch/>
          </p:blipFill>
          <p:spPr>
            <a:xfrm>
              <a:off x="7112160" y="0"/>
              <a:ext cx="2793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1" descr=""/>
            <p:cNvPicPr/>
            <p:nvPr/>
          </p:nvPicPr>
          <p:blipFill>
            <a:blip r:embed="rId5"/>
            <a:stretch/>
          </p:blipFill>
          <p:spPr>
            <a:xfrm>
              <a:off x="8864640" y="0"/>
              <a:ext cx="27936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UE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to which a stimulus can be described as similar to or different from stimuli that are described as red, green, blue, and yell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ATURATION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ount of whiteness in a col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NTENSITY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ghtness of a col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visual system compensates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nges in lumin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ext is used to resolve ambigu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cal illusions sometimes occur due to over comp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ptical Illus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" name="Group 45"/>
          <p:cNvGrpSpPr/>
          <p:nvPr/>
        </p:nvGrpSpPr>
        <p:grpSpPr>
          <a:xfrm>
            <a:off x="1606680" y="2362320"/>
            <a:ext cx="1446840" cy="2057400"/>
            <a:chOff x="1606680" y="2362320"/>
            <a:chExt cx="1446840" cy="2057400"/>
          </a:xfrm>
        </p:grpSpPr>
        <p:grpSp>
          <p:nvGrpSpPr>
            <p:cNvPr id="97" name="Group 16"/>
            <p:cNvGrpSpPr/>
            <p:nvPr/>
          </p:nvGrpSpPr>
          <p:grpSpPr>
            <a:xfrm>
              <a:off x="1606680" y="2362320"/>
              <a:ext cx="1446840" cy="2057400"/>
              <a:chOff x="1606680" y="2362320"/>
              <a:chExt cx="1446840" cy="2057400"/>
            </a:xfrm>
          </p:grpSpPr>
          <p:sp>
            <p:nvSpPr>
              <p:cNvPr id="98" name="AutoShape 5"/>
              <p:cNvSpPr/>
              <p:nvPr/>
            </p:nvSpPr>
            <p:spPr>
              <a:xfrm>
                <a:off x="1606680" y="2362320"/>
                <a:ext cx="609120" cy="2057400"/>
              </a:xfrm>
              <a:prstGeom prst="parallelogram">
                <a:avLst>
                  <a:gd name="adj" fmla="val 83856"/>
                </a:avLst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6"/>
              <p:cNvSpPr/>
              <p:nvPr/>
            </p:nvSpPr>
            <p:spPr>
              <a:xfrm flipH="1">
                <a:off x="2443680" y="2362320"/>
                <a:ext cx="609480" cy="2057400"/>
              </a:xfrm>
              <a:prstGeom prst="parallelogram">
                <a:avLst>
                  <a:gd name="adj" fmla="val 83856"/>
                </a:avLst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1682640" y="4191120"/>
                <a:ext cx="1218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1758600" y="3962520"/>
                <a:ext cx="11426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1834920" y="3733920"/>
                <a:ext cx="9903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1"/>
              <p:cNvSpPr/>
              <p:nvPr/>
            </p:nvSpPr>
            <p:spPr>
              <a:xfrm>
                <a:off x="1911240" y="3505320"/>
                <a:ext cx="83772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2"/>
              <p:cNvSpPr/>
              <p:nvPr/>
            </p:nvSpPr>
            <p:spPr>
              <a:xfrm>
                <a:off x="1987200" y="3276720"/>
                <a:ext cx="6854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3"/>
              <p:cNvSpPr/>
              <p:nvPr/>
            </p:nvSpPr>
            <p:spPr>
              <a:xfrm>
                <a:off x="1987200" y="3048120"/>
                <a:ext cx="6854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4"/>
              <p:cNvSpPr/>
              <p:nvPr/>
            </p:nvSpPr>
            <p:spPr>
              <a:xfrm>
                <a:off x="2063520" y="2819520"/>
                <a:ext cx="533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5"/>
              <p:cNvSpPr/>
              <p:nvPr/>
            </p:nvSpPr>
            <p:spPr>
              <a:xfrm>
                <a:off x="2139840" y="2590920"/>
                <a:ext cx="38052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17"/>
            <p:cNvSpPr/>
            <p:nvPr/>
          </p:nvSpPr>
          <p:spPr>
            <a:xfrm>
              <a:off x="1987200" y="3962520"/>
              <a:ext cx="685440" cy="304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555a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987200" y="2590920"/>
              <a:ext cx="685440" cy="304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555a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6"/>
          <p:cNvGrpSpPr/>
          <p:nvPr/>
        </p:nvGrpSpPr>
        <p:grpSpPr>
          <a:xfrm>
            <a:off x="5357880" y="3276720"/>
            <a:ext cx="2133000" cy="1066680"/>
            <a:chOff x="5357880" y="3276720"/>
            <a:chExt cx="2133000" cy="1066680"/>
          </a:xfrm>
        </p:grpSpPr>
        <p:grpSp>
          <p:nvGrpSpPr>
            <p:cNvPr id="111" name="Group 42"/>
            <p:cNvGrpSpPr/>
            <p:nvPr/>
          </p:nvGrpSpPr>
          <p:grpSpPr>
            <a:xfrm>
              <a:off x="5357880" y="3276720"/>
              <a:ext cx="2133000" cy="457200"/>
              <a:chOff x="5357880" y="3276720"/>
              <a:chExt cx="2133000" cy="457200"/>
            </a:xfrm>
          </p:grpSpPr>
          <p:grpSp>
            <p:nvGrpSpPr>
              <p:cNvPr id="112" name="Group 28"/>
              <p:cNvGrpSpPr/>
              <p:nvPr/>
            </p:nvGrpSpPr>
            <p:grpSpPr>
              <a:xfrm>
                <a:off x="7110000" y="3276720"/>
                <a:ext cx="380880" cy="457200"/>
                <a:chOff x="7110000" y="3276720"/>
                <a:chExt cx="380880" cy="457200"/>
              </a:xfrm>
            </p:grpSpPr>
            <p:sp>
              <p:nvSpPr>
                <p:cNvPr id="113" name="Line 26"/>
                <p:cNvSpPr/>
                <p:nvPr/>
              </p:nvSpPr>
              <p:spPr>
                <a:xfrm flipH="1">
                  <a:off x="7110000" y="3276720"/>
                  <a:ext cx="38052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27"/>
                <p:cNvSpPr/>
                <p:nvPr/>
              </p:nvSpPr>
              <p:spPr>
                <a:xfrm>
                  <a:off x="7110360" y="3505320"/>
                  <a:ext cx="38052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29"/>
              <p:cNvGrpSpPr/>
              <p:nvPr/>
            </p:nvGrpSpPr>
            <p:grpSpPr>
              <a:xfrm>
                <a:off x="5357880" y="3276720"/>
                <a:ext cx="380880" cy="457200"/>
                <a:chOff x="5357880" y="3276720"/>
                <a:chExt cx="380880" cy="457200"/>
              </a:xfrm>
            </p:grpSpPr>
            <p:sp>
              <p:nvSpPr>
                <p:cNvPr id="116" name="Line 30"/>
                <p:cNvSpPr/>
                <p:nvPr/>
              </p:nvSpPr>
              <p:spPr>
                <a:xfrm>
                  <a:off x="5357880" y="327672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1"/>
                <p:cNvSpPr/>
                <p:nvPr/>
              </p:nvSpPr>
              <p:spPr>
                <a:xfrm flipH="1">
                  <a:off x="5357880" y="350532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Line 32"/>
              <p:cNvSpPr/>
              <p:nvPr/>
            </p:nvSpPr>
            <p:spPr>
              <a:xfrm flipH="1">
                <a:off x="5738400" y="3505320"/>
                <a:ext cx="13712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0"/>
            <p:cNvGrpSpPr/>
            <p:nvPr/>
          </p:nvGrpSpPr>
          <p:grpSpPr>
            <a:xfrm>
              <a:off x="5662440" y="3886200"/>
              <a:ext cx="1523880" cy="457200"/>
              <a:chOff x="5662440" y="3886200"/>
              <a:chExt cx="1523880" cy="457200"/>
            </a:xfrm>
          </p:grpSpPr>
          <p:grpSp>
            <p:nvGrpSpPr>
              <p:cNvPr id="120" name="Group 33"/>
              <p:cNvGrpSpPr/>
              <p:nvPr/>
            </p:nvGrpSpPr>
            <p:grpSpPr>
              <a:xfrm>
                <a:off x="6805440" y="3886200"/>
                <a:ext cx="380880" cy="457200"/>
                <a:chOff x="6805440" y="3886200"/>
                <a:chExt cx="380880" cy="457200"/>
              </a:xfrm>
            </p:grpSpPr>
            <p:sp>
              <p:nvSpPr>
                <p:cNvPr id="121" name="Line 34"/>
                <p:cNvSpPr/>
                <p:nvPr/>
              </p:nvSpPr>
              <p:spPr>
                <a:xfrm>
                  <a:off x="6805440" y="38862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35"/>
                <p:cNvSpPr/>
                <p:nvPr/>
              </p:nvSpPr>
              <p:spPr>
                <a:xfrm flipH="1">
                  <a:off x="6805440" y="41148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36"/>
              <p:cNvGrpSpPr/>
              <p:nvPr/>
            </p:nvGrpSpPr>
            <p:grpSpPr>
              <a:xfrm>
                <a:off x="5662440" y="3886200"/>
                <a:ext cx="380880" cy="457200"/>
                <a:chOff x="5662440" y="3886200"/>
                <a:chExt cx="380880" cy="457200"/>
              </a:xfrm>
            </p:grpSpPr>
            <p:sp>
              <p:nvSpPr>
                <p:cNvPr id="124" name="Line 37"/>
                <p:cNvSpPr/>
                <p:nvPr/>
              </p:nvSpPr>
              <p:spPr>
                <a:xfrm flipH="1">
                  <a:off x="5662440" y="38862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38"/>
                <p:cNvSpPr/>
                <p:nvPr/>
              </p:nvSpPr>
              <p:spPr>
                <a:xfrm>
                  <a:off x="5662440" y="41148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Line 39"/>
              <p:cNvSpPr/>
              <p:nvPr/>
            </p:nvSpPr>
            <p:spPr>
              <a:xfrm flipH="1">
                <a:off x="5738760" y="4114800"/>
                <a:ext cx="1371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Text Box 43"/>
          <p:cNvSpPr/>
          <p:nvPr/>
        </p:nvSpPr>
        <p:spPr>
          <a:xfrm>
            <a:off x="1285920" y="449568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onzo il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5106600" y="449568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uller Lyer il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quick brown fox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jumps over th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lazy do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veral st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 pattern percei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oded using internal representation of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preted using knowledge of syntax, semantics, prag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 involves saccades and fix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erception occurs during fix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d shape is important to recog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contrast improves reading from computer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a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6280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environ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tances, directions, object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ysical apparat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er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tects inner and amplifies s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dle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mits sound wav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s vibrations to inner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ner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emical transmitter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re releas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cause impulses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uditory ner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tc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und frequ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udnes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b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e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3810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aring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umans can hear frequencies from 20Hz to 15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ss accurate distinguishing high frequencies than 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ditory system filters sou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attend to sounds over background noi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example, the cocktail party phenomen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s important feedback about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be key sense for someone who is visually impai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imulus received via receptors in the sk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more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heat and co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ci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p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chanore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press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some instant, some continuo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 areas more sensitive than others e.g. fing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inethesis  - awareness of body pos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ffects comfort and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ime taken to respond to stimulu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ction time + movemen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 time dependent on age, fitnes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ction time - dependent on stimulus 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200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t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150 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700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ing reaction time decreases accuracy in the unskilled operator but not in the skilled opera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vement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tts' Law describes the time taken to hit a screen targe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t = a + b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D/S +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d b are empirically determined const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t is movement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 is Dist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is Size of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rgets as large as possib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tances as small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1954-home-computer.jpg"/>
          <p:cNvPicPr/>
          <p:nvPr/>
        </p:nvPicPr>
        <p:blipFill>
          <a:blip r:embed="rId2"/>
          <a:stretch/>
        </p:blipFill>
        <p:spPr>
          <a:xfrm>
            <a:off x="609480" y="8571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three types of memory fun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ory mem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rt-term memory or working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-term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ion of stimuli governed by level of arou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752480" y="2895480"/>
            <a:ext cx="3095640" cy="1523880"/>
            <a:chOff x="1752480" y="2895480"/>
            <a:chExt cx="3095640" cy="1523880"/>
          </a:xfrm>
        </p:grpSpPr>
        <p:sp>
          <p:nvSpPr>
            <p:cNvPr id="147" name="Line 4"/>
            <p:cNvSpPr/>
            <p:nvPr/>
          </p:nvSpPr>
          <p:spPr>
            <a:xfrm>
              <a:off x="1752480" y="2895480"/>
              <a:ext cx="533520" cy="457200"/>
            </a:xfrm>
            <a:prstGeom prst="line">
              <a:avLst/>
            </a:prstGeom>
            <a:ln w="38160">
              <a:solidFill>
                <a:srgbClr val="251c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WordArt 5"/>
            <p:cNvSpPr txBox="1"/>
            <p:nvPr/>
          </p:nvSpPr>
          <p:spPr>
            <a:xfrm>
              <a:off x="2590560" y="2971800"/>
              <a:ext cx="1314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Attention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743200" y="3886200"/>
              <a:ext cx="609480" cy="533160"/>
            </a:xfrm>
            <a:prstGeom prst="line">
              <a:avLst/>
            </a:prstGeom>
            <a:ln w="38160">
              <a:solidFill>
                <a:srgbClr val="251c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7"/>
            <p:cNvSpPr txBox="1"/>
            <p:nvPr/>
          </p:nvSpPr>
          <p:spPr>
            <a:xfrm>
              <a:off x="3429000" y="3962160"/>
              <a:ext cx="14191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Rehearsal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nsory mem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ffers for stimuli received through s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conic memory: visual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ic memory: aural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ptic memory: tactile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sualising traffic while 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ereo 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inuously overwrit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ort-term memory (STM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ratch-pad for temporary re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pid access ~ 70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pid decay ~ 200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mited capacity - 7± 2 chu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123482784932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0121 414 26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EC ATR ANU PTH ETR 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ng-term memory (LTM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sitory for all our knowl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w access ~ 1/10 seco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w decay, if 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uge or unlimited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spcBef>
                <a:spcPts val="6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pisod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ial memory of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mant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ructured memory of facts,concepts, ski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mantic LTM derived from episodic L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ng-term memory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mantic memory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s access to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s relationships between bits of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s in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del: semantic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heritance – child nodes inherit properties of parent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onships between bits of information explic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s inference through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1143000" y="1568520"/>
            <a:ext cx="7086600" cy="5060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semantic netwo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Fra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organized in data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ts in structure instantiated with values for instance of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ype–subtype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676520" y="3657600"/>
            <a:ext cx="2438280" cy="2590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g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et:  carniver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nd:  b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105520" y="3657600"/>
            <a:ext cx="2438280" cy="2590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 of:  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:  sheep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:  65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Scrip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del of stereotypical information required to interpret situ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ript has elements that can be instantiated with values for 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1219320" y="2895480"/>
            <a:ext cx="6705360" cy="3733920"/>
            <a:chOff x="1219320" y="2895480"/>
            <a:chExt cx="6705360" cy="3733920"/>
          </a:xfrm>
        </p:grpSpPr>
        <p:sp>
          <p:nvSpPr>
            <p:cNvPr id="170" name="Rectangle 5"/>
            <p:cNvSpPr/>
            <p:nvPr/>
          </p:nvSpPr>
          <p:spPr>
            <a:xfrm>
              <a:off x="1219320" y="2895480"/>
              <a:ext cx="6705360" cy="3733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3276720" y="3047760"/>
              <a:ext cx="251460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ript for a visit to the v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1371600" y="3581280"/>
              <a:ext cx="2971800" cy="2255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 condition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has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ul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b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po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ri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amination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4796280" y="3581280"/>
              <a:ext cx="2591640" cy="2894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le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exam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iagno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rea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brings dog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akes dog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ene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rriving at rece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aiting in 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y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ck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needs medi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needs 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Production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resentation of procedural knowledg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dition/action ru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condition is mat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 use rule to determin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0" y="4800600"/>
            <a:ext cx="3429000" cy="175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og is wagging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t 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og is grow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run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00600" y="1352520"/>
            <a:ext cx="4038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at is going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y is i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at can be don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these kind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304920" y="762120"/>
          <a:ext cx="39114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3911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Storage of infor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hears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moves from STM to L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tal time hypo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ount retained proportional to rehearsal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tribution of practice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mized by spreading learning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ucture, meaning and familia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easier to rem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Forg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is lost gradually but very slow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information replaces old: retroactive inter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ld may interfere with new: proactive inhib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 may not forget at all memory is selective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fected by emotion – can subconsciously `choose' to fo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retriev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al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reproduced from memory can be assisted by cues, e.g. categories, imag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gives knowledge that it has been seen bef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ss complex than recall - information is c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duction, induction, ab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du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rive logically necessary conclusion from given premis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it is Friday then she will go to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Fri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efore she will go to wor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gical conclusion not necessarily tru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it is raining then the ground is d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efore the ground is d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duc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truth and logical validity clash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people are bab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babies c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erence - Some people c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 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c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ople bring world knowledge to b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u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ize from cases seen to cases uns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elephants we have seen have trun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fore all elephants have trun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reliab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only prove false not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 useful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umans not good at using negative ev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Wason's ca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on's car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is tr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many cards do you need to turn over to find o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and which car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3520" y="3718080"/>
            <a:ext cx="807696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ard has a vowel on one side it has an even number on the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362320" y="1965240"/>
            <a:ext cx="4344840" cy="1312920"/>
            <a:chOff x="2362320" y="1965240"/>
            <a:chExt cx="4344840" cy="1312920"/>
          </a:xfrm>
        </p:grpSpPr>
        <p:sp>
          <p:nvSpPr>
            <p:cNvPr id="195" name="Rectangle 6"/>
            <p:cNvSpPr/>
            <p:nvPr/>
          </p:nvSpPr>
          <p:spPr>
            <a:xfrm>
              <a:off x="2362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3505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4648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5791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0"/>
            <p:cNvSpPr/>
            <p:nvPr/>
          </p:nvSpPr>
          <p:spPr>
            <a:xfrm>
              <a:off x="2512080" y="1965240"/>
              <a:ext cx="419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GB" sz="8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E  4  K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b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soning from event to ca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m drives fast when drun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I see Sam driving fast, assume drun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reliab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lead to false explan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cess of finding solution to unfamiliar task using knowled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veral the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sta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 solving both productive and reprodu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tive draws on insight and restructuring of prob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ttractive but not enough evidence to explain `insight'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ve away from behaviourism and led towards information processing theo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Aspects of Mental Mode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-9360" y="2133720"/>
          <a:ext cx="45050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2133720"/>
                    <a:ext cx="4505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4419720" y="1981080"/>
            <a:ext cx="403848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designer has in mind about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ser’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user think about the system migh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he system act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blem space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blem space comprises problem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blem solving involves generating states using leg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uristics may be employed to select operat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means-end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rates within human information processing 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STM limit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ly applied to problem solving in well-defined are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uzzles rather than knowledge intensive ar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a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ogical mapp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vel problems in new domai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 knowledge of similar problem from similar doma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ogical mapping difficult if domains are semantically diffe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kill acqui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illed activity characterized by chun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t of information is chunked to optimize S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eptual rather than superficial grouping of probl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 is structured more effective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rrors and mental mode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ght intention, but failed to do it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s: poor physical skill,inatten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 to aspect of skilled behaviour can cause sl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stak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ong inten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: incorrect understa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umans create mental models to explain behaviou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3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wrong (different from actual system)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rious theories of how emotion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mes-Lange: emotion is our interpretation of a physiological response to a stim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non: emotion is a psychological response to a stim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hacter-Singer: emotion is the result of our evaluation of our physiological responses, in the light of the whole situation we are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otion clearly involves both cognitive and physical responses to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biological response to physical stimuli is calle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840" indent="-357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ect influences how we respond to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-268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reative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-268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gativ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rrow thin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affect can make it harder to do even easy tasks; positive affect can make it easier to do difficult task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7560" indent="0" algn="r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nald Norm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lications for interfac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ess will increase the difficulty of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xed users will be more forgiving of shortcomings in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esthetically pleasing and rewarding interfaces will increase positive a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dividual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sex, physical and intellectual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effect of stress or fati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ng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k yourself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ll design decision exclude section of user popul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sychology and the Design of Interactive Syst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 direct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lue acuity is po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lue should not be used for important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ever, correct application generally requires understanding of context in psychology, and an understanding of particular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lot of knowledge has been distilled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uidelines (chap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gnitive models (chap 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erimental and analytic evaluation techniques (chap 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hum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Information i/o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isual, auditory, haptic,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nformation stored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b05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sensory, short-term, long-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</a:rPr>
              <a:t>Information processed and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70c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asoning, problem solving, skill,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Verdana"/>
              </a:rPr>
              <a:t>Emotion influences human cap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Each person is diff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stages in 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hysical reception of stim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essing and interpretation of stim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Eye - physical recep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chanism for receiving light and transforming it into electric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light reflects from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Verdana"/>
              </a:rPr>
              <a:t>images are focused upside-down on ret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f0"/>
                </a:solidFill>
                <a:latin typeface="Verdana"/>
              </a:rPr>
              <a:t>retina contains rods for low light vision and cones for colour 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Verdana"/>
              </a:rPr>
              <a:t>ganglion cells (brain!) detect pattern and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eye-anatomy.jpg"/>
          <p:cNvPicPr/>
          <p:nvPr/>
        </p:nvPicPr>
        <p:blipFill>
          <a:blip r:embed="rId1"/>
          <a:stretch/>
        </p:blipFill>
        <p:spPr>
          <a:xfrm>
            <a:off x="5146560" y="2438280"/>
            <a:ext cx="384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ze and dep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Verdana"/>
              </a:rPr>
              <a:t>visual angl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cates how much of view object occup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relates to size and distance from ey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isual acuity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ability to perceive detail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limi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miliar objects </a:t>
            </a: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erceiv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s constant siz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in spite of changes in visual angle when far aw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cu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like overlapping help </a:t>
            </a: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percep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size and dep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ight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jective reaction to levels of l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fected by luminance of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d by just noticeable dif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 acuity increases with luminance as does fli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de up of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ue, intensity, sat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es sensitive to colour waveleng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ue acuity is lo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% males and 1% females colour bl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4:10:51Z</dcterms:created>
  <dc:creator>Alan Dix</dc:creator>
  <dc:description/>
  <dc:language>en-US</dc:language>
  <cp:lastModifiedBy>Dr. Shakeel Ahmed Khoja</cp:lastModifiedBy>
  <dcterms:modified xsi:type="dcterms:W3CDTF">2011-02-21T09:09:45Z</dcterms:modified>
  <cp:revision>16</cp:revision>
  <dc:subject/>
  <dc:title>PowerPoint Presentation</dc:title>
</cp:coreProperties>
</file>